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2596B-0F61-4C9F-B090-1BE1DEC6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3CAAB-EB20-422A-838A-F440B9FF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11A10-26E6-41D9-AB3C-74A11472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BD441-09D5-42EB-B3E1-4E720AA5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57E0-861D-4120-9DC6-D3B81747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2F0E-1D81-4BE2-9756-BBD6F65F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FD46-631E-46A6-BB59-D868AD4F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A500-D9EE-42D4-A2AA-D3781EB6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FBAB-2043-4D30-8DA6-62C8D6A8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0BE1-E8F4-4115-93B5-5B4C1CB4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8612-0BED-49B2-8152-91352C89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1E0D9-15BA-4BAF-83A6-EED895C5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A02B-F32C-4D4D-8B94-8675ADED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748A-491E-4D01-A921-33AD419A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11E9-7CC2-423D-92BF-F94E8B0B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F066-B6DF-45D5-B81B-DF423AD3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8DEB-CD2B-473D-B4B5-FE17E16E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B1ACF-22AE-4B1D-8B29-06F6E08D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0433D-A4A0-48D5-911D-A4787DBF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C0377-EED3-43C1-A69E-86A23DE0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CDDF7-FF76-4024-9B3D-FC019373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9A944-D0D5-4659-91B6-B76CEB4E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2AB82-B178-44AB-BDAD-01FC2814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199CC-C157-4452-9423-25F99CD4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21C3-9CBB-4F9C-987C-DCAF4AF1CC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3789-7C61-4D75-A5B9-F065946B6E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lexander Graham Bell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: Jake, Bryan, Stephan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d Jacob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rch 26 2008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and his brother built a robot that could tal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n’t the only one working on the teleph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partner who helped him make the telephone was named Thomas Wat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mother was nearly deaf and he had a tough time communicating with 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ould have to lean on her forehead to talk to 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l was born in18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is Invention the Telephone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invented the telepho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telephone t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lephone n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00400" y="3276720"/>
            <a:ext cx="844560" cy="1046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76920" y="426708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3962520" y="4952520"/>
            <a:ext cx="11430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657600" y="3124080"/>
            <a:ext cx="9144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is inventions old nam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lephone was not call a telephone then it was call the Harmonic Telegrap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idea of the Harmonic Telegraph wasn’t only his idea there were other people who tried to make the Harmonic Telegraph not only h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 about competition for an ide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 Sad Ending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ham Bell died tragically on 1922 August,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 age 7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5:30:26Z</dcterms:created>
  <dc:creator>Montour School District</dc:creator>
  <dc:description/>
  <dc:language>en-US</dc:language>
  <cp:lastModifiedBy>Montour School District</cp:lastModifiedBy>
  <dcterms:modified xsi:type="dcterms:W3CDTF">2008-05-22T13:56:59Z</dcterms:modified>
  <cp:revision>12</cp:revision>
  <dc:subject/>
  <dc:title>Alexander Graham Bell</dc:title>
</cp:coreProperties>
</file>